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4C84-DBD0-4C10-86A7-C351DBAD8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B300-B102-4DE6-9429-50B9E9F08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D01C-76A0-497E-BC67-5C89EF62B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AEB5-3076-470B-B8FE-639BE0D23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9736-3459-4634-B3A3-1D328E5B8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7DCB-BEB5-490C-B86A-544E01475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BFD7-3248-41CF-A7D5-6429A9192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C834-BCE9-4FEE-B84B-E0A81051C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EA99-9B9C-4E26-BAF7-010D2A7D9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7DFF-FEA5-4A1D-8B6F-284B12B77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0AC7-9C9C-4F39-A62B-67DD6765B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0443-96BF-42A8-982A-5460E0885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D8896-54D3-437D-A692-5502D6F1D1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balkankult.org/" TargetMode="External"/><Relationship Id="rId3" Type="http://schemas.openxmlformats.org/officeDocument/2006/relationships/hyperlink" Target="http://www.balkankult.org/" TargetMode="External"/><Relationship Id="rId4" Type="http://schemas.openxmlformats.org/officeDocument/2006/relationships/hyperlink" Target="mailto:projects@balkankult.org" TargetMode="External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419640" y="260280"/>
            <a:ext cx="1728720" cy="11415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ff0000"/>
                </a:solidFill>
                <a:latin typeface="Arial"/>
              </a:rPr>
              <a:t>Balkankult Fondacija je osnovana 1999. godi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ff0000"/>
                </a:solidFill>
                <a:latin typeface="Arial"/>
              </a:rPr>
              <a:t>Prva je fondacija regionalnog i međunarodnog karaktera na Balkan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0000"/>
                </a:solidFill>
                <a:latin typeface="Arial"/>
              </a:rPr>
              <a:t>Glavne aktivnosti su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3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ff0000"/>
                </a:solidFill>
                <a:latin typeface="Arial"/>
              </a:rPr>
              <a:t>razvoj kreativnih potencijala Srbije i regiona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3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ff0000"/>
                </a:solidFill>
                <a:latin typeface="Arial"/>
              </a:rPr>
              <a:t>mobilnosti umetnika i kulturnih praktičara, ideja i d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3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ff0000"/>
                </a:solidFill>
                <a:latin typeface="Arial"/>
              </a:rPr>
              <a:t>decentralizacija kulturne produkcije i distribucij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3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l-SI" sz="1200" spc="-1" strike="noStrike">
                <a:solidFill>
                  <a:srgbClr val="ff0000"/>
                </a:solidFill>
                <a:latin typeface="Arial"/>
              </a:rPr>
              <a:t>podrška kulturnom diverzitet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3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ff0000"/>
                </a:solidFill>
                <a:latin typeface="Arial"/>
              </a:rPr>
              <a:t>unapređivanje regionalne i međuregionalne kulturne saradnj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3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ff0000"/>
                </a:solidFill>
                <a:latin typeface="Arial"/>
              </a:rPr>
              <a:t>razvoj kreativnih industrij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3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ff0000"/>
                </a:solidFill>
                <a:latin typeface="Arial"/>
              </a:rPr>
              <a:t>proširivanje kulturnog tržiš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3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ff0000"/>
                </a:solidFill>
                <a:latin typeface="Arial"/>
              </a:rPr>
              <a:t>saradnja sa socijalno odgovornim korporacij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3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ff0000"/>
                </a:solidFill>
                <a:latin typeface="Arial"/>
              </a:rPr>
              <a:t>unapređenje međunarodne kulturne saradnj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Arial"/>
              </a:rPr>
              <a:t>***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ff0000"/>
                </a:solidFill>
                <a:latin typeface="Arial"/>
              </a:rPr>
              <a:t>Adresa</a:t>
            </a:r>
            <a:r>
              <a:rPr b="0" lang="sr-Latn-CS" sz="1000" spc="-1" strike="noStrike">
                <a:solidFill>
                  <a:srgbClr val="ff0000"/>
                </a:solidFill>
                <a:latin typeface="Arial"/>
              </a:rPr>
              <a:t>: Beograd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sr-Latn-CS" sz="1000" spc="-1" strike="noStrike">
                <a:solidFill>
                  <a:srgbClr val="ff0000"/>
                </a:solidFill>
                <a:latin typeface="Arial"/>
              </a:rPr>
              <a:t> Nemanjina 4/V, tel/fax: 3621760;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Latn-CS" sz="1000" spc="-1" strike="noStrike">
                <a:solidFill>
                  <a:srgbClr val="ff0000"/>
                </a:solidFill>
                <a:latin typeface="Arial"/>
              </a:rPr>
              <a:t>3621763;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Novi Sad, </a:t>
            </a:r>
            <a:r>
              <a:rPr b="0" lang="sr-Latn-CS" sz="1000" spc="-1" strike="noStrike">
                <a:solidFill>
                  <a:srgbClr val="ff0000"/>
                </a:solidFill>
                <a:latin typeface="Arial"/>
              </a:rPr>
              <a:t>Đorđa Jovanovića 9, tel/fax: 553830; </a:t>
            </a:r>
            <a:r>
              <a:rPr b="0" lang="sr-Latn-CS" sz="1000" spc="-1" strike="noStrike" u="sng">
                <a:solidFill>
                  <a:srgbClr val="ff5050"/>
                </a:solidFill>
                <a:uFillTx/>
                <a:latin typeface="Arial"/>
                <a:hlinkClick r:id="rId2"/>
              </a:rPr>
              <a:t>www.balkankult.or</a:t>
            </a:r>
            <a:r>
              <a:rPr b="0" lang="en-US" sz="1000" spc="-1" strike="noStrike" u="sng">
                <a:solidFill>
                  <a:srgbClr val="ff5050"/>
                </a:solidFill>
                <a:uFillTx/>
                <a:latin typeface="Arial"/>
                <a:hlinkClick r:id="rId3"/>
              </a:rPr>
              <a:t>g</a:t>
            </a:r>
            <a:r>
              <a:rPr b="0" lang="sr-Latn-CS" sz="10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000" spc="-1" strike="noStrike" u="sng">
                <a:solidFill>
                  <a:srgbClr val="ff5050"/>
                </a:solidFill>
                <a:uFillTx/>
                <a:latin typeface="Arial"/>
                <a:hlinkClick r:id="rId4"/>
              </a:rPr>
              <a:t>projects@balkankult.org</a:t>
            </a:r>
            <a:r>
              <a:rPr b="0" lang="sr-Latn-CS" sz="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a6500"/>
                </a:solidFill>
                <a:latin typeface="Arial"/>
              </a:rPr>
              <a:t>Budž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0000"/>
                </a:solidFill>
                <a:latin typeface="Arial"/>
              </a:rPr>
              <a:t>Balkankult fondacija (uz podršku donatora produkcije) pokriva sve troškove produkcije: autorska prava, umnožavanje DVD, prevod i titlovanje, produkciju TV emisija, izradu fotografija, štampanje promotivnih materijala, koordinacija (ukopan iznos troškova produkcije dosadašnjih program iznosi oko 70.000 evra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0000"/>
                </a:solidFill>
                <a:latin typeface="Arial"/>
              </a:rPr>
              <a:t>Troškovi distribucije nisu pokriveni. Kulturne institucije partneri snose samo troškove fizičke manipulacije (oko između 50 i 100 evra po jednom programu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fa6500"/>
                </a:solidFill>
                <a:uFillTx/>
                <a:latin typeface="Arial"/>
              </a:rPr>
              <a:t>Projekat</a:t>
            </a:r>
            <a:r>
              <a:rPr b="0" lang="sr-Latn-CS" sz="2400" spc="-1" strike="noStrike" u="sng">
                <a:solidFill>
                  <a:srgbClr val="fa6500"/>
                </a:solidFill>
                <a:uFillTx/>
                <a:latin typeface="Arial"/>
              </a:rPr>
              <a:t> – </a:t>
            </a:r>
            <a:r>
              <a:rPr b="1" lang="sr-Latn-CS" sz="2400" spc="-1" strike="noStrike" u="sng">
                <a:solidFill>
                  <a:srgbClr val="fa6500"/>
                </a:solidFill>
                <a:uFillTx/>
                <a:latin typeface="Arial"/>
              </a:rPr>
              <a:t>PROTIV KULTURNE DOSADE</a:t>
            </a:r>
            <a:br>
              <a:rPr sz="2400"/>
            </a:br>
            <a:r>
              <a:rPr b="0" lang="sr-Latn-CS" sz="2400" spc="-1" strike="noStrike">
                <a:solidFill>
                  <a:srgbClr val="fa6500"/>
                </a:solidFill>
                <a:latin typeface="Arial"/>
              </a:rPr>
              <a:t>Kulturni život u manjim sredin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 u="sng">
                <a:solidFill>
                  <a:srgbClr val="ff0000"/>
                </a:solidFill>
                <a:uFillTx/>
                <a:latin typeface="Arial"/>
              </a:rPr>
              <a:t>Ciljevi projek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50000"/>
              </a:lnSpc>
              <a:spcBef>
                <a:spcPts val="3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ff0000"/>
                </a:solidFill>
                <a:latin typeface="Arial"/>
              </a:rPr>
              <a:t>Unapređenje kulturnog života u malim sredin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50000"/>
              </a:lnSpc>
              <a:spcBef>
                <a:spcPts val="3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ff0000"/>
                </a:solidFill>
                <a:latin typeface="Arial"/>
              </a:rPr>
              <a:t>Podrška razvoju kreativnog potencijala, posebno onog koji živi u manjim mestim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50000"/>
              </a:lnSpc>
              <a:spcBef>
                <a:spcPts val="3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ff0000"/>
                </a:solidFill>
                <a:latin typeface="Arial"/>
              </a:rPr>
              <a:t>Decentralizacija produkcije i pristupačnosti kvalitetnih kulturnih sadržaja građanima manjim sredinama</a:t>
            </a: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50000"/>
              </a:lnSpc>
              <a:spcBef>
                <a:spcPts val="3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ff0000"/>
                </a:solidFill>
                <a:latin typeface="Arial"/>
              </a:rPr>
              <a:t>Širenje imidža kompanije donatora kao prijatelja k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 u="sng">
                <a:solidFill>
                  <a:srgbClr val="ff0000"/>
                </a:solidFill>
                <a:uFillTx/>
                <a:latin typeface="Arial"/>
              </a:rPr>
              <a:t>Mesto realizacije:</a:t>
            </a:r>
            <a:r>
              <a:rPr b="0" lang="sl-SI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l-SI" sz="1200" spc="-1" strike="noStrike">
                <a:solidFill>
                  <a:srgbClr val="ff0000"/>
                </a:solidFill>
                <a:latin typeface="Arial"/>
              </a:rPr>
              <a:t>Srbij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 u="sng">
                <a:solidFill>
                  <a:srgbClr val="ff0000"/>
                </a:solidFill>
                <a:uFillTx/>
                <a:latin typeface="Arial"/>
              </a:rPr>
              <a:t>Partneri u realizaciji :</a:t>
            </a:r>
            <a:r>
              <a:rPr b="0" lang="sl-SI" sz="1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sl-SI" sz="1200" spc="-1" strike="noStrike">
                <a:solidFill>
                  <a:srgbClr val="ff0000"/>
                </a:solidFill>
                <a:latin typeface="Arial"/>
              </a:rPr>
              <a:t>Domovi kulture, kulturni centri, muzeji i galerije u Beogradu, Nišu i Novom Sadu i u više od 30 manjih gradova širom Srbij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 u="sng">
                <a:solidFill>
                  <a:srgbClr val="ff0000"/>
                </a:solidFill>
                <a:uFillTx/>
                <a:latin typeface="Arial"/>
              </a:rPr>
              <a:t>Programi:</a:t>
            </a:r>
            <a:r>
              <a:rPr b="0" lang="sl-SI" sz="1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sl-SI" sz="1200" spc="-1" strike="noStrike">
                <a:solidFill>
                  <a:srgbClr val="ff0000"/>
                </a:solidFill>
                <a:latin typeface="Arial"/>
              </a:rPr>
              <a:t>Preko 40 međunarodnih programa iz oblasti: filma, vizuelnih umetnosti, fotografije, etnografije, literature, muzike i dizajna (lista program se stalno dopunjuj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 u="sng">
                <a:solidFill>
                  <a:srgbClr val="ff0000"/>
                </a:solidFill>
                <a:uFillTx/>
                <a:latin typeface="Arial"/>
              </a:rPr>
              <a:t>Institucije koje su do sada pomogle produkciju:</a:t>
            </a:r>
            <a:r>
              <a:rPr b="1" lang="sl-SI" sz="1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sl-SI" sz="1200" spc="-1" strike="noStrike">
                <a:solidFill>
                  <a:srgbClr val="ff0000"/>
                </a:solidFill>
                <a:latin typeface="Arial"/>
              </a:rPr>
              <a:t>Nordijski ministarski savet; Ambasade nordijskih država; Ambasada SAD; Ambasada Holandije; Ambasada Meksika; Filmkontak Nord; Privredna komora islanda; Umetnički savet laponije; Asocijacija “Progeto musica”; Ministarstvo kulture Srbije; Ministarstvo inostranih poslova Srbije; Kompanija Actavis/Zdravlje; Kompanija Carlsberg; Kompanija AltecFermin 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Arial"/>
              </a:rPr>
              <a:t>OPIS PROJEK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3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ff0000"/>
                </a:solidFill>
                <a:latin typeface="Arial"/>
              </a:rPr>
              <a:t>Razvoj kulturnog života u malim sredinama koje nemaju sredstva i mogućnosti za organizovanjem međunarodnih kulturnih događaj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3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ff0000"/>
                </a:solidFill>
                <a:latin typeface="Arial"/>
              </a:rPr>
              <a:t>Međunarodna kulturna saradnja je veoma skupa – od troškova autorksih prava, prevoda, koordinacije, prevoza, do štampanih materijala. Svi ti troškovi ne mogu biti isplativi ako se program organizuje samo za jedno prikazivanj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3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ff0000"/>
                </a:solidFill>
                <a:latin typeface="Arial"/>
              </a:rPr>
              <a:t>Ovakav pristup kulturnim programima, posebno međunarodnim, ujedno znači i efikasno i racionalno trošenje sredstava. Za lokalnu sredinu ovo je jedinstveno povoljna prilika da se uključe u međunarodnu kulturnu saradnju i obogate kulturni život u svojoj sredin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3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ff0000"/>
                </a:solidFill>
                <a:latin typeface="Arial"/>
              </a:rPr>
              <a:t>Ovaj  projekat direktno podstiče razradu novog modela kulture. Taj novi model kulturne politike ogleda se, pre svega, u procesu decentralizacije produkcije i pristupačnosti kvalitetnih kulturnih sadržaja građanima manjim sredinama</a:t>
            </a:r>
            <a:r>
              <a:rPr b="0" lang="sl-SI" sz="1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1998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 u="sng">
                <a:solidFill>
                  <a:srgbClr val="fa6500"/>
                </a:solidFill>
                <a:uFillTx/>
                <a:latin typeface="Arial"/>
              </a:rPr>
              <a:t>ZNAČAJ PROJEKTA</a:t>
            </a:r>
            <a:r>
              <a:rPr b="1" lang="sl-SI" sz="2000" spc="-1" strike="noStrike">
                <a:solidFill>
                  <a:srgbClr val="fa65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 u="sng">
                <a:solidFill>
                  <a:srgbClr val="ff0000"/>
                </a:solidFill>
                <a:uFillTx/>
                <a:latin typeface="Arial"/>
              </a:rPr>
              <a:t>KLJUČNE REČI:</a:t>
            </a:r>
            <a:r>
              <a:rPr b="0" lang="sl-SI" sz="1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sl-SI" sz="1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sl-SI" sz="1200" spc="-1" strike="noStrike">
                <a:solidFill>
                  <a:srgbClr val="ff0000"/>
                </a:solidFill>
                <a:latin typeface="Arial"/>
              </a:rPr>
              <a:t>Kulturni život, mladi, kreativni potencijal, lokalna sredina, partnerstvo </a:t>
            </a:r>
            <a:r>
              <a:rPr b="1" lang="sl-SI" sz="1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sl-SI" sz="1200" spc="-1" strike="noStrike">
                <a:solidFill>
                  <a:srgbClr val="ff0000"/>
                </a:solidFill>
                <a:latin typeface="Arial"/>
              </a:rPr>
              <a:t>privrede i kulture, efikasnost, međunarodna kulturna saradnj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 u="sng">
                <a:solidFill>
                  <a:srgbClr val="ff0000"/>
                </a:solidFill>
                <a:uFillTx/>
                <a:latin typeface="Arial"/>
              </a:rPr>
              <a:t>CILJNA GRUPA POSETILA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sl-SI" sz="1200" spc="-1" strike="noStrike">
                <a:solidFill>
                  <a:srgbClr val="ff0000"/>
                </a:solidFill>
                <a:latin typeface="Arial"/>
              </a:rPr>
              <a:t>Ponuđeni programi su posebno atraktivni za mlađu populaciju i imaju izuzetno visok umetnički nivo i predstavljaju rezultat međuregionalne i međunarodne saradnje Balkankulta sa partnerima iz inostranstva. Lista programa koji se nude </a:t>
            </a:r>
            <a:r>
              <a:rPr b="1" lang="sl-SI" sz="1200" spc="-1" strike="noStrike" u="sng">
                <a:solidFill>
                  <a:srgbClr val="ff0000"/>
                </a:solidFill>
                <a:uFillTx/>
                <a:latin typeface="Arial"/>
              </a:rPr>
              <a:t>stalno se proširuje novim sadržajima</a:t>
            </a:r>
            <a:r>
              <a:rPr b="1" lang="sl-SI" sz="1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 u="sng">
                <a:solidFill>
                  <a:srgbClr val="ff0000"/>
                </a:solidFill>
                <a:uFillTx/>
                <a:latin typeface="Arial"/>
              </a:rPr>
              <a:t>PARTERI U REALIZACIJ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3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0000"/>
                </a:solidFill>
                <a:latin typeface="Arial"/>
              </a:rPr>
              <a:t>Realizacija programa započeta je 2005. i nastavila se tokom 2006, 2007, 2008. i 2009. godine. Interesovanje za programe nadmašilo je sve očekivanja.  Trajna saradnja je uspostavljena sa kulturnim institucijama iz</a:t>
            </a:r>
            <a:r>
              <a:rPr b="1" lang="sr-Latn-CS" sz="1200" spc="-1" strike="noStrike">
                <a:solidFill>
                  <a:srgbClr val="ff0000"/>
                </a:solidFill>
                <a:latin typeface="Arial"/>
              </a:rPr>
              <a:t>: Novog Sada, Niša, Zaječara, Aleksinca, Gornjeg Milanovca, Sopota, Zrenjanina, Smedereva, Aranđelovca, Čačka, Subotice, Lazarevca, Sremske Mitrovice, Trstenika, Gračanice, Zvečana, Lazarevca, Obrenovca, Sombora, Beočina, Mladenovca </a:t>
            </a:r>
            <a:r>
              <a:rPr b="1" lang="sr-Latn-CS" sz="1200" spc="-1" strike="noStrike">
                <a:solidFill>
                  <a:srgbClr val="fa6500"/>
                </a:solidFill>
                <a:latin typeface="Arial"/>
              </a:rPr>
              <a:t>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a6500"/>
                </a:solidFill>
                <a:latin typeface="Arial"/>
              </a:rPr>
              <a:t>UČEŠĆE DONAT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 u="sng">
                <a:solidFill>
                  <a:srgbClr val="ff0000"/>
                </a:solidFill>
                <a:uFillTx/>
                <a:latin typeface="Arial"/>
              </a:rPr>
              <a:t>TELEKOM SOCIJALNO ODGOVORNA KORPORACIJ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3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ff0000"/>
                </a:solidFill>
                <a:latin typeface="Arial"/>
              </a:rPr>
              <a:t>Širenje  afirmacije (imidža) donatora podrškom održivom razvoju društva u celini, posebno malih sred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3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ff0000"/>
                </a:solidFill>
                <a:latin typeface="Arial"/>
              </a:rPr>
              <a:t>Donator kao uzorni “korporacijski građanin” koji razvija poslovnu politiku u kojoj su profitabilnost, održivi razvoj i humani progres osnovni indikatori njenog poslovnog uspe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Latn-CS" sz="12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sr-Latn-CS" sz="1200" spc="-1" strike="noStrike" u="sng">
                <a:solidFill>
                  <a:srgbClr val="ff0000"/>
                </a:solidFill>
                <a:uFillTx/>
                <a:latin typeface="Arial"/>
              </a:rPr>
              <a:t>lan učešća kompanije, kao i PR zajednički bi razradili saradnici Fondacije  i donatora</a:t>
            </a:r>
            <a:r>
              <a:rPr b="1" lang="sr-Latn-CS" sz="12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 u="sng">
                <a:solidFill>
                  <a:srgbClr val="ff0000"/>
                </a:solidFill>
                <a:uFillTx/>
                <a:latin typeface="Arial"/>
              </a:rPr>
              <a:t>BIZ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ff0000"/>
                </a:solidFill>
                <a:latin typeface="Arial"/>
              </a:rPr>
              <a:t>Na konkursu Ministarstva kulture Srbije za najuspešnije povezivanje kulture i biznisa u 2006. godini Balkankult je izabran među pet najboljih (drugo mesto).</a:t>
            </a:r>
            <a:r>
              <a:rPr b="0" lang="sr-Latn-CS" sz="1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 u="sng">
                <a:solidFill>
                  <a:srgbClr val="fa6500"/>
                </a:solidFill>
                <a:uFillTx/>
                <a:latin typeface="Arial"/>
              </a:rPr>
              <a:t>Press konferenc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826920" y="836640"/>
            <a:ext cx="2190960" cy="3168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276720" y="1052640"/>
            <a:ext cx="4824360" cy="26812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6227640" y="3933720"/>
            <a:ext cx="2187720" cy="2519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755640" y="3933720"/>
            <a:ext cx="395604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a6500"/>
                </a:solidFill>
                <a:latin typeface="Arial"/>
              </a:rPr>
              <a:t>POZADINA PROJEKTA</a:t>
            </a:r>
            <a:br>
              <a:rPr sz="2000"/>
            </a:br>
            <a:r>
              <a:rPr b="1" i="1" lang="sl-SI" sz="1600" spc="-1" strike="noStrike" u="sng">
                <a:solidFill>
                  <a:srgbClr val="fa6500"/>
                </a:solidFill>
                <a:uFillTx/>
                <a:latin typeface="Arial"/>
              </a:rPr>
              <a:t>REZULTATI ISTRAŽIVANJA POTREBA MLADIH U 17 MANJIH GRADOVA SRBI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0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000" spc="-1" strike="noStrike" u="sng">
                <a:solidFill>
                  <a:srgbClr val="ff0000"/>
                </a:solidFill>
                <a:uFillTx/>
                <a:latin typeface="Arial"/>
              </a:rPr>
              <a:t>OCENA VAŽNOSTI PROBLEMA MLADIH U LOKALNIM SREDINA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000" spc="-1" strike="noStrike">
                <a:solidFill>
                  <a:srgbClr val="ff0000"/>
                </a:solidFill>
                <a:latin typeface="Arial"/>
              </a:rPr>
              <a:t>PROBLEM                                                                                 ARITMETIČKA SREDINA</a:t>
            </a:r>
            <a:r>
              <a:rPr b="0" lang="sl-SI" sz="1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ff0000"/>
                </a:solidFill>
                <a:latin typeface="Arial"/>
              </a:rPr>
              <a:t>Nezaposlenost                                                                                 4,72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ff0000"/>
                </a:solidFill>
                <a:latin typeface="Arial"/>
              </a:rPr>
              <a:t>Narkomanija                                                                                     4,49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000" spc="-1" strike="noStrike" u="sng">
                <a:solidFill>
                  <a:srgbClr val="ff0000"/>
                </a:solidFill>
                <a:uFillTx/>
                <a:latin typeface="Arial"/>
              </a:rPr>
              <a:t>Nedostatak kulturnih dešavanja za mlade                                   4,31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ff0000"/>
                </a:solidFill>
                <a:latin typeface="Arial"/>
              </a:rPr>
              <a:t>Alkoholizam                                                                                     4,3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ff0000"/>
                </a:solidFill>
                <a:latin typeface="Arial"/>
              </a:rPr>
              <a:t>Nedostatak podrške mladima od strane lokalne samouprave          4,24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ff0000"/>
                </a:solidFill>
                <a:latin typeface="Arial"/>
              </a:rPr>
              <a:t>Delikvencija i kriminal4,20 Nemogućnost dodatnog obrazovanja     4,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000" spc="-1" strike="noStrike" u="sng">
                <a:solidFill>
                  <a:srgbClr val="ff0000"/>
                </a:solidFill>
                <a:uFillTx/>
                <a:latin typeface="Arial"/>
              </a:rPr>
              <a:t>Malobrojne i/ili neadekvatne mogućnosti za zabavu                  4,10</a:t>
            </a:r>
            <a:r>
              <a:rPr b="0" lang="sl-SI" sz="1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ff0000"/>
                </a:solidFill>
                <a:latin typeface="Arial"/>
              </a:rPr>
              <a:t>Siromašna ponuda sportskih i rekreativnih aktivnosti                      3,8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000" spc="-1" strike="noStrike" u="sng">
                <a:solidFill>
                  <a:srgbClr val="ff0000"/>
                </a:solidFill>
                <a:uFillTx/>
                <a:latin typeface="Arial"/>
              </a:rPr>
              <a:t>ŠTA TREBA PROMENITI DA BI VEĆINA MLADIH OSTALA I BILA SREĆ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ff0000"/>
                </a:solidFill>
                <a:latin typeface="Arial"/>
              </a:rPr>
              <a:t>Više mogućnosti za zaposlenje, nova radna mesta                          59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000" spc="-1" strike="noStrike" u="sng">
                <a:solidFill>
                  <a:srgbClr val="ff0000"/>
                </a:solidFill>
                <a:uFillTx/>
                <a:latin typeface="Arial"/>
              </a:rPr>
              <a:t>Više kulturnih i sportskih sadržaja                                               32%</a:t>
            </a:r>
            <a:r>
              <a:rPr b="1" lang="sl-SI" sz="1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000" spc="-1" strike="noStrike" u="sng">
                <a:solidFill>
                  <a:srgbClr val="ff0000"/>
                </a:solidFill>
                <a:uFillTx/>
                <a:latin typeface="Arial"/>
              </a:rPr>
              <a:t>Bolja ponuda mesta za izlazak                                                      21 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ff0000"/>
                </a:solidFill>
                <a:latin typeface="Arial"/>
              </a:rPr>
              <a:t>Veći standard, bolja ekonomska situacija                                        21 %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 u="sng">
                <a:solidFill>
                  <a:srgbClr val="fa6500"/>
                </a:solidFill>
                <a:uFillTx/>
                <a:latin typeface="Arial"/>
              </a:rPr>
              <a:t>Programi</a:t>
            </a:r>
            <a:br>
              <a:rPr sz="2000"/>
            </a:br>
            <a:r>
              <a:rPr b="1" lang="sl-SI" sz="1600" spc="-1" strike="noStrike">
                <a:solidFill>
                  <a:srgbClr val="fa6500"/>
                </a:solidFill>
                <a:latin typeface="Arial"/>
              </a:rPr>
              <a:t>Preko 30 međunarodnih programa iz oblasti: filma, vizuelnih umetnosti, fotografije, etnografije, literature, muzike i dizajna (lista program se stalno dopunjuje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5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ff0000"/>
                </a:solidFill>
                <a:latin typeface="Arial"/>
              </a:rPr>
              <a:t>PROGRAMI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15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15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000" spc="-1" strike="noStrike" u="sng">
                <a:solidFill>
                  <a:srgbClr val="ff0000"/>
                </a:solidFill>
                <a:uFillTx/>
                <a:latin typeface="Arial"/>
              </a:rPr>
              <a:t>Izlož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500"/>
              </a:lnSpc>
              <a:spcBef>
                <a:spcPts val="2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ff0000"/>
                </a:solidFill>
                <a:latin typeface="Arial"/>
              </a:rPr>
              <a:t>Radovi I Trijenala balkanskog ex librisa - TRIBEL I (tema - Most simbol saradnj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500"/>
              </a:lnSpc>
              <a:spcBef>
                <a:spcPts val="2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ff0000"/>
                </a:solidFill>
                <a:latin typeface="Arial"/>
              </a:rPr>
              <a:t>Radovi II Trijenala balkanskog Ex librisa – TRIBEL II (tema  - Hleb, kulturna baštin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ff0000"/>
                </a:solidFill>
                <a:latin typeface="Arial"/>
              </a:rPr>
              <a:t>Izložba 13 grafika našin najeminetnijih likovnih stvarala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ff0000"/>
                </a:solidFill>
                <a:latin typeface="Arial"/>
              </a:rPr>
              <a:t>Dizajna njujorškog studija KarsonWilk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ff0000"/>
                </a:solidFill>
                <a:latin typeface="Arial"/>
              </a:rPr>
              <a:t>Grafike balkanskih umetnika učesnika kolonije “Grafička radionica”,2004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ff0000"/>
                </a:solidFill>
                <a:latin typeface="Arial"/>
              </a:rPr>
              <a:t>Grafiea umetnika učesnika međunarodne kolonije “Grafička radionica”,2007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ff0000"/>
                </a:solidFill>
                <a:latin typeface="Arial"/>
              </a:rPr>
              <a:t>Fotografije čuvenog islandskog fotografa Akselonsa Raxa</a:t>
            </a:r>
            <a:r>
              <a:rPr b="0" i="1" lang="sv-SE" sz="1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ff0000"/>
                </a:solidFill>
                <a:latin typeface="Arial"/>
              </a:rPr>
              <a:t>Fotografije – Zemlja ponoćnog sunca - Laponija</a:t>
            </a:r>
            <a:r>
              <a:rPr b="0" lang="sv-SE" sz="1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ff0000"/>
                </a:solidFill>
                <a:latin typeface="Arial"/>
              </a:rPr>
              <a:t>Fotografije svetskog fotografa Jaka Heikile</a:t>
            </a:r>
            <a:r>
              <a:rPr b="0" lang="sv-SE" sz="1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ff0000"/>
                </a:solidFill>
                <a:latin typeface="Arial"/>
              </a:rPr>
              <a:t>Fotografije Žaklin Hener – Moja Srbij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ff0000"/>
                </a:solidFill>
                <a:latin typeface="Arial"/>
              </a:rPr>
              <a:t>Ruski  i sovjetski plakat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ff0000"/>
                </a:solidFill>
                <a:latin typeface="Arial"/>
              </a:rPr>
              <a:t>Reprodukcije ulja na platnu mekskičkih umetnica - Omaž Fridi Ka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ff0000"/>
                </a:solidFill>
                <a:latin typeface="Arial"/>
              </a:rPr>
              <a:t>Fotografije Aleksandra Kelića – Srbija, nezavršena i nedovršena prič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ff0000"/>
                </a:solidFill>
                <a:latin typeface="Arial"/>
              </a:rPr>
              <a:t>Izložba – Civilizacija hleba i piva – drevni Egip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ff0000"/>
                </a:solidFill>
                <a:latin typeface="Arial"/>
              </a:rPr>
              <a:t>Izložba – Rimsko antičko nasleđe Vojvodine – kulturni kontinuit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ff0000"/>
                </a:solidFill>
                <a:latin typeface="Arial"/>
              </a:rPr>
              <a:t>Fotografije i objekti umetnika Rajnharda Dubrave – Balkanski dnevni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 u="sng">
                <a:solidFill>
                  <a:srgbClr val="ff0000"/>
                </a:solidFill>
                <a:uFillTx/>
                <a:latin typeface="Arial"/>
              </a:rPr>
              <a:t>Filmski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ff0000"/>
                </a:solidFill>
                <a:latin typeface="Arial"/>
              </a:rPr>
              <a:t>Program kratkih filmova sa Balkana -Neizbež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ff0000"/>
                </a:solidFill>
                <a:latin typeface="Arial"/>
              </a:rPr>
              <a:t>Programi najboljih kratkih, dokumentarnih i animiranih filmova nordijskog regiona – Nordijska panorama 2004/2005/2006/2008/2009.</a:t>
            </a:r>
            <a:r>
              <a:rPr b="0" i="1" lang="sr-Latn-CS" sz="1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ff0000"/>
                </a:solidFill>
                <a:latin typeface="Arial"/>
              </a:rPr>
              <a:t>Islandski igrani i dokumentarni filmo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ff0000"/>
                </a:solidFill>
                <a:latin typeface="Arial"/>
              </a:rPr>
              <a:t>Danski igrani i dokumentarni filmo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ff0000"/>
                </a:solidFill>
                <a:latin typeface="Arial"/>
              </a:rPr>
              <a:t>Holandski igrani i dokumentarni filmo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ff0000"/>
                </a:solidFill>
                <a:latin typeface="Arial"/>
              </a:rPr>
              <a:t>Laponski dokumentarni filmo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ff0000"/>
                </a:solidFill>
                <a:latin typeface="Arial"/>
              </a:rPr>
              <a:t>Filmovi Njujorške škole animacij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ff0000"/>
                </a:solidFill>
                <a:latin typeface="Arial"/>
              </a:rPr>
              <a:t>Norveški dokumentari i animirani filmo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15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000" spc="-1" strike="noStrike">
                <a:solidFill>
                  <a:srgbClr val="ff0000"/>
                </a:solidFill>
                <a:latin typeface="Arial"/>
              </a:rPr>
              <a:t>(Lista program se stalno dopunjuj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fa6500"/>
                </a:solidFill>
                <a:uFillTx/>
                <a:latin typeface="Arial"/>
              </a:rPr>
              <a:t>Plakati i bilbordi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2746440" cy="3743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419640" y="1628640"/>
            <a:ext cx="2522520" cy="36576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6084720" y="1628640"/>
            <a:ext cx="2419560" cy="37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8T10:49:37Z</dcterms:created>
  <dc:creator>Dimitrije</dc:creator>
  <dc:description/>
  <dc:language>en-US</dc:language>
  <cp:lastModifiedBy>User</cp:lastModifiedBy>
  <dcterms:modified xsi:type="dcterms:W3CDTF">2009-12-27T18:20:51Z</dcterms:modified>
  <cp:revision>39</cp:revision>
  <dc:subject/>
  <dc:title>Slide 1</dc:title>
</cp:coreProperties>
</file>